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56DAA-3F83-4F38-B3FC-1932C9DF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219E-3896-4641-A18E-B37B5130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D093-842A-48F1-BDDA-F71BA9F3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5698-4A23-4D11-83B5-9E493823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7C39-62B0-4BB7-A822-D8AF940B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81D-4E90-4206-9417-652BE98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6FE5-B91E-49BE-BC3D-04797F2A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B8FB-B678-4C6A-886C-84C403E4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994-CFE5-437A-987E-1F83F7F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82E8-DE56-4502-9411-8E6302B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3B9E-807C-495B-BCDC-2914E360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ED3A-B7C5-4C9C-A90D-9E3FF31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6FD-1EB8-4EC8-BCF3-EB60ECE7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6D97-9BA3-49BF-9863-9B0676E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70E1-8C8A-4D69-85F4-951D8AE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BE46-22D2-4316-913F-4B1591D3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1972-0C3F-4C5F-855D-3CC0EE58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35BA-1E8D-4FA1-BA06-9789EE5E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294D-DE73-4012-AE30-C3E1E255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EFFC-17DB-40DD-8E45-9CCA51E9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477A-ED90-4CAC-81E8-75093EA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65DA-A090-4704-B454-A46926EB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F9A1-46EA-4D4D-A610-45B9B0B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EE928-0816-42F3-AE1E-5E2B247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E4B2-2F71-4193-AD44-E2341519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6CC6-E98C-4FF8-A57A-A0D720C52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egumentary System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.K.A.: Sk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tic F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38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anocy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34000" y="457200"/>
            <a:ext cx="4410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Endings of Epider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Nerve End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in &amp; Temp. (epidermis &amp; 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kel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is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tic L.T. (epi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issner’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rpus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ynamic L.T. (derm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cinia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rpus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ep pressure &amp; vibration (deeper tissue- subcutane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038480" y="5867280"/>
            <a:ext cx="265320" cy="26532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760" t="13590" r="0" b="3673"/>
          <a:stretch/>
        </p:blipFill>
        <p:spPr>
          <a:xfrm>
            <a:off x="4648320" y="2209680"/>
            <a:ext cx="449568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4280" y="493920"/>
            <a:ext cx="81554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rm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2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ry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olar 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in capillaries &amp;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mal papillae: extensions into 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al ri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ngerpr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icula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nse irre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ive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, attachment, &amp; allows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48400" y="3505320"/>
            <a:ext cx="3495600" cy="23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4038480" cy="2162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9920" y="1143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1752480"/>
            <a:ext cx="53316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4640" y="501840"/>
            <a:ext cx="90547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rm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onents &amp;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ory Org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air, sweat &amp; sebaceous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lood ve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ympha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sists in tissue re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rve fi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receptors &amp; nerve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s blood flow &amp; gland secretion rat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6960" y="52416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mis: Wrinkles &amp; Stretch 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radiation &amp; over stretched skin (pregnan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tch elastin beyond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s &amp; stretch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in-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itamin A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n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. blood flow to incr. dermal repair &amp; decr. wrink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0680" y="497880"/>
            <a:ext cx="90626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bcutaneous Layer: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ypoderm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uc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loose connective tissue w/ abundant adip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babies: more adipos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: fat located differently in male,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bilizes skin, store energy, ins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for med in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, steady i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vital organs &amp; limited # capil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7080" y="36720"/>
            <a:ext cx="90698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ory Structure: Hair Foll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s found everywhere except palms, soles, lips, sides of fingers &amp; 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ize, shape, and color of h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ncloses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 Folli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: areolar tissue w/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ulla- division (inn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tex- begin kerati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33588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icle- fully keratinized (out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ector pili mus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mooth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Root Plex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r Foll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51856" b="0"/>
          <a:stretch/>
        </p:blipFill>
        <p:spPr>
          <a:xfrm>
            <a:off x="0" y="0"/>
            <a:ext cx="3962520" cy="635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089240" y="1981080"/>
            <a:ext cx="4749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94280" y="493920"/>
            <a:ext cx="8155440" cy="6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 Types &amp; 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Vell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fine, “peach fuzz” (most of bod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ermin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eavy, colored (head, eyebr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ntermedi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-between (legs &amp; arm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ed by melanocytes at papi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igment production slows w/ age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ay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8305920" y="6095880"/>
            <a:ext cx="264960" cy="26532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5920" y="25920"/>
            <a:ext cx="9092160" cy="4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ocrine: Sebaceous Gl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baceous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ocrine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with hair follicle: secre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um: prevents drying &amp; inhibits bacteri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mpoo: removes natural oil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ff, dry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baceous Foll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s directly to 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, back,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ne: (caused by hormone cha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nds blocked, secretions accumulat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ation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teri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ruminous 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erumen (earwax)to protect inner 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baceous Follicle &amp; 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81080" y="1584360"/>
            <a:ext cx="5334120" cy="52736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8305920" y="6095880"/>
            <a:ext cx="264960" cy="26532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5320"/>
              <a:gd name="textAreaBottom" fmla="*/ 248400 h 265320"/>
            </a:gdLst>
            <a:ahLst/>
            <a:rect l="textAreaLeft" t="textAreaTop" r="textAreaRight" b="textAreaBottom"/>
            <a:pathLst>
              <a:path w="21600" h="21629">
                <a:moveTo>
                  <a:pt x="0" y="0"/>
                </a:moveTo>
                <a:lnTo>
                  <a:pt x="21600" y="0"/>
                </a:lnTo>
                <a:lnTo>
                  <a:pt x="21600" y="21629"/>
                </a:lnTo>
                <a:lnTo>
                  <a:pt x="0" y="21629"/>
                </a:lnTo>
                <a:close/>
              </a:path>
              <a:path fill="lightenLess" w="21600" h="216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9">
                <a:moveTo>
                  <a:pt x="21600" y="0"/>
                </a:moveTo>
                <a:lnTo>
                  <a:pt x="21600" y="21629"/>
                </a:lnTo>
                <a:lnTo>
                  <a:pt x="20200" y="20229"/>
                </a:lnTo>
                <a:lnTo>
                  <a:pt x="20200" y="1400"/>
                </a:lnTo>
                <a:close/>
              </a:path>
              <a:path fill="darkenLess" w="21600" h="21629">
                <a:moveTo>
                  <a:pt x="21600" y="21629"/>
                </a:moveTo>
                <a:lnTo>
                  <a:pt x="0" y="21629"/>
                </a:lnTo>
                <a:lnTo>
                  <a:pt x="1400" y="20229"/>
                </a:lnTo>
                <a:lnTo>
                  <a:pt x="20200" y="20229"/>
                </a:lnTo>
                <a:close/>
              </a:path>
              <a:path fill="lighten" w="21600" h="21629">
                <a:moveTo>
                  <a:pt x="0" y="216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9"/>
                </a:lnTo>
                <a:close/>
              </a:path>
              <a:path fill="darken" w="21600" h="21629">
                <a:moveTo>
                  <a:pt x="3794" y="10815"/>
                </a:moveTo>
                <a:lnTo>
                  <a:pt x="17806" y="3808"/>
                </a:lnTo>
                <a:lnTo>
                  <a:pt x="17806" y="1782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90680" y="33120"/>
            <a:ext cx="816264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ocrine: Sweat Glands- 2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5486400" y="659304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7372080" y="5414040"/>
            <a:ext cx="176400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ocr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5417280" y="5566680"/>
            <a:ext cx="158580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cri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35400" y="533520"/>
            <a:ext cx="40086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 flipV="1">
            <a:off x="7924320" y="380952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400800" y="48002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6629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pocrine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 through 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pits &amp; gr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e at puberty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state &amp;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envmt for bacteri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ocrine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(palms/ s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e to skin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ing eff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ion: dilute chem, wash away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4640" y="501840"/>
            <a:ext cx="905472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Local Control : Infla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= great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ck, keratin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junctions b/w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&amp; sweat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illary layer= bacterial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bacteria enters papillary layer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 cells initiat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26534" b="0"/>
          <a:stretch/>
        </p:blipFill>
        <p:spPr>
          <a:xfrm>
            <a:off x="5653080" y="3276720"/>
            <a:ext cx="349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7080" y="36720"/>
            <a:ext cx="90698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Local Control: Re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t 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 &amp; fibrin (sca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olates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network for new cell mi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vision, Migration, &amp; Phagocyto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m germinativ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ide &amp; Migrate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ranulation tiss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fibrin clot, fibroblasts, capillary net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2795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4014720"/>
            <a:ext cx="39625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eneratio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4120" y="3276720"/>
            <a:ext cx="3809880" cy="29541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943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car tis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lots of collagen, little bloo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ob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d hair follicles, sweat &amp; sebaceous glands replaced w/ sc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ntraction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s &amp; epitheli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woun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ot diss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ing Integumenta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eat G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ol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ly skeletal &amp; arrector pi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erficial: heat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er: maintain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Skin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2438280" cy="1628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238880" y="6094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143760" y="3591000"/>
            <a:ext cx="3000240" cy="3267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al cell carcinoma: Most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inativum (basale)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tas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mous Cell Carcinoma: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st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tasis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anoma: most dangerous &amp;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ous melan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: UV 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Metastasis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ymetry, Border, Color,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Burns &amp; Skin Graf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thema, sunburn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, blisters, pain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s in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to germinativum &amp; dermi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, moist, blisters, blanch with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ry structures un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if &gt;15% body burned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weeks to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de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to subcutaneou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te, brown, black, or whit,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painfu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heal if extensive through bod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n graft may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990720"/>
            <a:ext cx="75960" cy="3429000"/>
          </a:xfrm>
          <a:custGeom>
            <a:avLst/>
            <a:gdLst>
              <a:gd name="textAreaLeft" fmla="*/ 48600 w 75960"/>
              <a:gd name="textAreaRight" fmla="*/ 76320 w 759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188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0"/>
            <a:ext cx="75960" cy="2286000"/>
          </a:xfrm>
          <a:custGeom>
            <a:avLst/>
            <a:gdLst>
              <a:gd name="textAreaLeft" fmla="*/ 48600 w 75960"/>
              <a:gd name="textAreaRight" fmla="*/ 76320 w 759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188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gumentary Overall Func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lying tissues &amp;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lts, water, &amp; organic wastes (excretory or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normal bod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tamin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ns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ouch, pressure, pain, &amp; te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11827" t="5259" r="10168" b="5259"/>
          <a:stretch/>
        </p:blipFill>
        <p:spPr>
          <a:xfrm>
            <a:off x="0" y="0"/>
            <a:ext cx="6172200" cy="4465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ns&amp; Trea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0280" y="609480"/>
            <a:ext cx="375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 of Bur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 of 9’s (p. 20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4640" y="281952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n G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-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-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rmis &amp; Der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Fl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3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238880" y="1905120"/>
            <a:ext cx="265320" cy="264960"/>
          </a:xfrm>
          <a:custGeom>
            <a:avLst/>
            <a:gdLst>
              <a:gd name="textAreaLeft" fmla="*/ 16920 w 265320"/>
              <a:gd name="textAreaRight" fmla="*/ 248400 w 26532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3808" y="3794"/>
                </a:moveTo>
                <a:lnTo>
                  <a:pt x="17821" y="10800"/>
                </a:lnTo>
                <a:lnTo>
                  <a:pt x="380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4266720"/>
            <a:ext cx="5867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ther Conc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&amp; electrolyte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 of 9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3048120" y="624852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ication: Decubitus Ul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ubitus Ulcer= Pressure S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: over bony areas (i.e. sacrum, h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off blood supp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nutrients &amp;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ost affec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 r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sensation: diabetics (feet &amp; hands), S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elchai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redd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: bl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: all 3 skin layers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: all 3 layers of skin &amp; underlying tissues (muscle/ tendons/ b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: positioning every 2 hours, weight shifts in wheelchair, cushioning/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0058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of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ubitus 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5906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334120" y="76212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772160" y="3289320"/>
            <a:ext cx="437184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umentary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aneous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utaneou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430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ess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Foll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c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E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515880"/>
            <a:ext cx="91440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piderm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ayers:Stratified Squam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7391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Germinativ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tratum Ba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Spino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ells still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Granulo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ra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tein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resistant, durable (poor envmt for bacteria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so nails, hooves, horns, qu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Lucid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alms &amp; sol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atum Corn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uperfi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tened, dead, keratin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914400"/>
            <a:ext cx="1828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d after 2 w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0" y="160020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dermal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46343" t="0" r="0" b="8429"/>
          <a:stretch/>
        </p:blipFill>
        <p:spPr>
          <a:xfrm>
            <a:off x="4419720" y="4375080"/>
            <a:ext cx="4724280" cy="248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807440" y="4118760"/>
            <a:ext cx="114984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7000560" y="3966480"/>
            <a:ext cx="2135880" cy="52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m &amp; So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2939" r="1681" b="1474"/>
          <a:stretch/>
        </p:blipFill>
        <p:spPr>
          <a:xfrm>
            <a:off x="0" y="0"/>
            <a:ext cx="472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min D 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um spinosum &amp; germinati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light + steroid precursor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tamin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 D 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bones to absorb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ketts: bone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inner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ion/ Water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tective S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rm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 Color: 2 Determi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moglob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oo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ddish t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, infl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yan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ustained decr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extreme cold or cardiopulm. d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in Pi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ot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(carr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ocyt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erminativum &amp; dermis)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nocyte stimulating horm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SH)- pituitary gland &amp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lato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ineal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bi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n’t produce mel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31:16Z</dcterms:created>
  <dc:creator>Melissa Hecht</dc:creator>
  <dc:description/>
  <dc:language>en-US</dc:language>
  <cp:lastModifiedBy>jayoig</cp:lastModifiedBy>
  <dcterms:modified xsi:type="dcterms:W3CDTF">2009-10-06T18:44:46Z</dcterms:modified>
  <cp:revision>55</cp:revision>
  <dc:subject/>
  <dc:title>Integumentary System A.K.A.: Skin</dc:title>
</cp:coreProperties>
</file>